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FA63-39F5-4CDE-8420-529FA7BC0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F72F-2A64-4156-B35C-79EA9DD9E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42AB-3B66-4926-A46F-196E2D54A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1605-83B1-4055-A129-19A0AE0BE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B592-F76D-4C7A-B6E4-4AB3177E0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3D9E-D40A-4F4B-B7E9-448A063E4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07FF-E4E0-42B1-8BB7-F5732A78B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873F-83B3-4057-A02C-4170F94E2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D3CB-8C08-48CD-9143-1A467F6A9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E89D-5259-4110-8D25-C2C69DAA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EA67-1AD4-4BEC-9868-372B603C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B857-BD5E-4027-9468-472963AA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55793-FADB-4935-AB1A-9BD14EFC34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318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6554880"/>
            <a:ext cx="9144000" cy="3045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3240" y="6555240"/>
            <a:ext cx="22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Algebra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94400" y="8316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6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1066680" y="9756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olving Systems by Eli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03920" y="13716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6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1627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olving Systems by Eli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65530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Algebra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3553200" y="236160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2" action="ppaction://hlinksldjump"/>
          </p:cNvPr>
          <p:cNvSpPr/>
          <p:nvPr/>
        </p:nvSpPr>
        <p:spPr>
          <a:xfrm>
            <a:off x="3616200" y="302184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3" action="ppaction://hlinksldjump"/>
          </p:cNvPr>
          <p:cNvSpPr/>
          <p:nvPr/>
        </p:nvSpPr>
        <p:spPr>
          <a:xfrm>
            <a:off x="3584160" y="3631320"/>
            <a:ext cx="21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Qu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1905120"/>
            <a:ext cx="457200" cy="914400"/>
          </a:xfrm>
          <a:custGeom>
            <a:avLst/>
            <a:gdLst>
              <a:gd name="textAreaLeft" fmla="*/ 292320 w 457200"/>
              <a:gd name="textAreaRight" fmla="*/ 457560 w 4572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057400" y="1905120"/>
            <a:ext cx="24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 +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=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088000" y="2286000"/>
            <a:ext cx="18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– 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=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61640" y="2089080"/>
            <a:ext cx="541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lve                           by elimi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46880" y="2895480"/>
            <a:ext cx="374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the system so that like terms are alig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313280" y="3067200"/>
            <a:ext cx="3769920" cy="840600"/>
            <a:chOff x="1313280" y="3067200"/>
            <a:chExt cx="3769920" cy="840600"/>
          </a:xfrm>
        </p:grpSpPr>
        <p:sp>
          <p:nvSpPr>
            <p:cNvPr id="159" name=""/>
            <p:cNvSpPr/>
            <p:nvPr/>
          </p:nvSpPr>
          <p:spPr>
            <a:xfrm>
              <a:off x="1313280" y="3095640"/>
              <a:ext cx="126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1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687760" y="3448080"/>
              <a:ext cx="180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008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80008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x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= </a:t>
              </a:r>
              <a:r>
                <a:rPr b="0" lang="en-US" sz="2400" spc="-1" strike="noStrike">
                  <a:solidFill>
                    <a:srgbClr val="009999"/>
                  </a:solidFill>
                  <a:latin typeface="Verdana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666880" y="3067200"/>
              <a:ext cx="241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800080"/>
                  </a:solidFill>
                  <a:latin typeface="Verdana"/>
                </a:rPr>
                <a:t>y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+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x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= </a:t>
              </a:r>
              <a:r>
                <a:rPr b="0" lang="en-US" sz="2400" spc="-1" strike="noStrike">
                  <a:solidFill>
                    <a:srgbClr val="009999"/>
                  </a:solidFill>
                  <a:latin typeface="Verdana"/>
                </a:rPr>
                <a:t>–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5546880" y="3597120"/>
            <a:ext cx="35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Add the equations to eliminate the x-te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289160" y="3886200"/>
            <a:ext cx="3670200" cy="459720"/>
            <a:chOff x="1289160" y="3886200"/>
            <a:chExt cx="3670200" cy="459720"/>
          </a:xfrm>
        </p:grpSpPr>
        <p:sp>
          <p:nvSpPr>
            <p:cNvPr id="164" name=""/>
            <p:cNvSpPr/>
            <p:nvPr/>
          </p:nvSpPr>
          <p:spPr>
            <a:xfrm>
              <a:off x="2590920" y="3886200"/>
              <a:ext cx="2133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89160" y="3886200"/>
              <a:ext cx="110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67080" y="3886200"/>
              <a:ext cx="249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0080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800080"/>
                  </a:solidFill>
                  <a:latin typeface="Verdana"/>
                </a:rPr>
                <a:t>y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+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= </a:t>
              </a:r>
              <a:r>
                <a:rPr b="0" lang="en-US" sz="2400" spc="-1" strike="noStrike">
                  <a:solidFill>
                    <a:srgbClr val="009999"/>
                  </a:solidFill>
                  <a:latin typeface="Verdana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3328920" y="4343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548680" y="4495680"/>
            <a:ext cx="33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implify and solve for 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50480" y="510552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Divide both sides by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395520" y="4981680"/>
            <a:ext cx="1500480" cy="1193040"/>
            <a:chOff x="3395520" y="4981680"/>
            <a:chExt cx="1500480" cy="1193040"/>
          </a:xfrm>
        </p:grpSpPr>
        <p:pic>
          <p:nvPicPr>
            <p:cNvPr id="171" name="" descr=""/>
            <p:cNvPicPr/>
            <p:nvPr/>
          </p:nvPicPr>
          <p:blipFill>
            <a:blip r:embed="rId1"/>
            <a:stretch/>
          </p:blipFill>
          <p:spPr>
            <a:xfrm>
              <a:off x="3395520" y="4981680"/>
              <a:ext cx="1200240" cy="73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3524400" y="57150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800080"/>
                  </a:solidFill>
                  <a:latin typeface="Verdan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537920" y="1828800"/>
            <a:ext cx="272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3 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1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76720" y="1752480"/>
            <a:ext cx="405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one of the original equ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0200" y="25146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2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76360" y="2557440"/>
            <a:ext cx="25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ubstitute 4 for 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076720" y="2895480"/>
            <a:ext cx="382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ubtract 4 from both s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2423880" y="2819520"/>
            <a:ext cx="2209680" cy="840600"/>
            <a:chOff x="2423880" y="2819520"/>
            <a:chExt cx="2209680" cy="840600"/>
          </a:xfrm>
        </p:grpSpPr>
        <p:grpSp>
          <p:nvGrpSpPr>
            <p:cNvPr id="180" name=""/>
            <p:cNvGrpSpPr/>
            <p:nvPr/>
          </p:nvGrpSpPr>
          <p:grpSpPr>
            <a:xfrm>
              <a:off x="2423880" y="2819520"/>
              <a:ext cx="2209680" cy="459720"/>
              <a:chOff x="2423880" y="2819520"/>
              <a:chExt cx="2209680" cy="459720"/>
            </a:xfrm>
          </p:grpSpPr>
          <p:sp>
            <p:nvSpPr>
              <p:cNvPr id="181" name=""/>
              <p:cNvSpPr/>
              <p:nvPr/>
            </p:nvSpPr>
            <p:spPr>
              <a:xfrm>
                <a:off x="2506680" y="2819520"/>
                <a:ext cx="1783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Verdana"/>
                  </a:rPr>
                  <a:t>–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Verdana"/>
                  </a:rPr>
                  <a:t>4            –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423880" y="3200400"/>
                <a:ext cx="5335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100400" y="3200400"/>
                <a:ext cx="53316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3306240" y="3200400"/>
              <a:ext cx="116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–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5080320" y="35812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Divide both sides by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233880" y="3657600"/>
            <a:ext cx="1571400" cy="1221840"/>
            <a:chOff x="3233880" y="3657600"/>
            <a:chExt cx="1571400" cy="1221840"/>
          </a:xfrm>
        </p:grpSpPr>
        <p:sp>
          <p:nvSpPr>
            <p:cNvPr id="187" name=""/>
            <p:cNvSpPr/>
            <p:nvPr/>
          </p:nvSpPr>
          <p:spPr>
            <a:xfrm>
              <a:off x="3306240" y="3657600"/>
              <a:ext cx="116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–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233880" y="4067280"/>
              <a:ext cx="457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191120" y="4067280"/>
              <a:ext cx="457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349440" y="3994200"/>
              <a:ext cx="108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3      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379680" y="4419720"/>
              <a:ext cx="142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–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5076720" y="4740120"/>
            <a:ext cx="390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Write the solution as an ordered pa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303560" y="4952880"/>
            <a:ext cx="2353680" cy="459720"/>
            <a:chOff x="1303560" y="4952880"/>
            <a:chExt cx="2353680" cy="459720"/>
          </a:xfrm>
        </p:grpSpPr>
        <p:sp>
          <p:nvSpPr>
            <p:cNvPr id="194" name=""/>
            <p:cNvSpPr/>
            <p:nvPr/>
          </p:nvSpPr>
          <p:spPr>
            <a:xfrm>
              <a:off x="1303560" y="4952880"/>
              <a:ext cx="110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631960" y="4952880"/>
              <a:ext cx="102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–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, </a:t>
              </a:r>
              <a:r>
                <a:rPr b="0" lang="en-US" sz="2400" spc="-1" strike="noStrike">
                  <a:solidFill>
                    <a:srgbClr val="800080"/>
                  </a:solidFill>
                  <a:latin typeface="Verdana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0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8080" y="1523880"/>
            <a:ext cx="7696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two equations each contain the same term, you can subtract one equation from the other to solve the system. To subtract an equation add the opposite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each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e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600200" y="1905120"/>
            <a:ext cx="457200" cy="914400"/>
          </a:xfrm>
          <a:custGeom>
            <a:avLst/>
            <a:gdLst>
              <a:gd name="textAreaLeft" fmla="*/ 292320 w 457200"/>
              <a:gd name="textAreaRight" fmla="*/ 457560 w 4572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851120" y="1905120"/>
            <a:ext cx="241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+ y =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088000" y="2286000"/>
            <a:ext cx="18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– 5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 =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61640" y="2057400"/>
            <a:ext cx="541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lve                           by elimi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: Elimination Using Sub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2209320" y="3200400"/>
            <a:ext cx="228600" cy="914400"/>
            <a:chOff x="2209320" y="3200400"/>
            <a:chExt cx="228600" cy="914400"/>
          </a:xfrm>
        </p:grpSpPr>
        <p:sp>
          <p:nvSpPr>
            <p:cNvPr id="203" name=""/>
            <p:cNvSpPr/>
            <p:nvPr/>
          </p:nvSpPr>
          <p:spPr>
            <a:xfrm flipH="1">
              <a:off x="2209320" y="320040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209680" y="320040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09680" y="4114800"/>
              <a:ext cx="195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105160" y="3581280"/>
            <a:ext cx="228960" cy="914400"/>
            <a:chOff x="5105160" y="3581280"/>
            <a:chExt cx="228960" cy="914400"/>
          </a:xfrm>
        </p:grpSpPr>
        <p:sp>
          <p:nvSpPr>
            <p:cNvPr id="207" name=""/>
            <p:cNvSpPr/>
            <p:nvPr/>
          </p:nvSpPr>
          <p:spPr>
            <a:xfrm>
              <a:off x="5105520" y="358128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34120" y="358128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5105160" y="449568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5562720" y="3276720"/>
            <a:ext cx="355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Add the opposite of each term in the second equ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08280" y="3003480"/>
            <a:ext cx="11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69960" y="3352680"/>
            <a:ext cx="22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14600" y="2895480"/>
            <a:ext cx="24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+  y 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0" y="383868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2514960" y="3809880"/>
            <a:ext cx="2590560" cy="840600"/>
            <a:chOff x="2514960" y="3809880"/>
            <a:chExt cx="2590560" cy="840600"/>
          </a:xfrm>
        </p:grpSpPr>
        <p:sp>
          <p:nvSpPr>
            <p:cNvPr id="216" name=""/>
            <p:cNvSpPr/>
            <p:nvPr/>
          </p:nvSpPr>
          <p:spPr>
            <a:xfrm>
              <a:off x="2562480" y="3809880"/>
              <a:ext cx="241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+  y 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613240" y="4190760"/>
              <a:ext cx="21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514960" y="4619520"/>
              <a:ext cx="2590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5563440" y="4648320"/>
            <a:ext cx="29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Eliminate the x te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564520" y="5029200"/>
            <a:ext cx="33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implify and solve for 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844920" y="4619520"/>
            <a:ext cx="4376160" cy="459720"/>
            <a:chOff x="844920" y="4619520"/>
            <a:chExt cx="4376160" cy="459720"/>
          </a:xfrm>
        </p:grpSpPr>
        <p:sp>
          <p:nvSpPr>
            <p:cNvPr id="222" name=""/>
            <p:cNvSpPr/>
            <p:nvPr/>
          </p:nvSpPr>
          <p:spPr>
            <a:xfrm>
              <a:off x="2652480" y="4619520"/>
              <a:ext cx="256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0  + 6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44920" y="4619520"/>
              <a:ext cx="118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3429000" y="5029200"/>
            <a:ext cx="1795320" cy="872640"/>
            <a:chOff x="3429000" y="5029200"/>
            <a:chExt cx="1795320" cy="872640"/>
          </a:xfrm>
        </p:grpSpPr>
        <p:sp>
          <p:nvSpPr>
            <p:cNvPr id="225" name=""/>
            <p:cNvSpPr/>
            <p:nvPr/>
          </p:nvSpPr>
          <p:spPr>
            <a:xfrm>
              <a:off x="3429000" y="5029200"/>
              <a:ext cx="179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765240" y="5442120"/>
              <a:ext cx="98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800080"/>
                  </a:solidFill>
                  <a:latin typeface="Verdana"/>
                </a:rPr>
                <a:t>–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1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072040" y="190512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one of the original equ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70040" y="1981080"/>
            <a:ext cx="3741480" cy="459720"/>
            <a:chOff x="770040" y="1981080"/>
            <a:chExt cx="3741480" cy="459720"/>
          </a:xfrm>
        </p:grpSpPr>
        <p:sp>
          <p:nvSpPr>
            <p:cNvPr id="230" name=""/>
            <p:cNvSpPr/>
            <p:nvPr/>
          </p:nvSpPr>
          <p:spPr>
            <a:xfrm>
              <a:off x="770040" y="1981080"/>
              <a:ext cx="110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095560" y="1981080"/>
              <a:ext cx="241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+ 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1600200" y="2438280"/>
            <a:ext cx="30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+ 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(–3)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83200" y="270972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ubstitute </a:t>
            </a:r>
            <a:r>
              <a:rPr b="0" i="1" lang="en-US" sz="2400" spc="-1" strike="noStrike">
                <a:solidFill>
                  <a:srgbClr val="3333ff"/>
                </a:solidFill>
                <a:latin typeface="Verdana"/>
                <a:ea typeface="Arial"/>
              </a:rPr>
              <a:t>–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3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 for 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73480" y="3276720"/>
            <a:ext cx="287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Add 3 to both s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155680" y="2895480"/>
            <a:ext cx="24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2606760" y="3308400"/>
            <a:ext cx="1523880" cy="459720"/>
            <a:chOff x="2606760" y="3308400"/>
            <a:chExt cx="1523880" cy="459720"/>
          </a:xfrm>
        </p:grpSpPr>
        <p:sp>
          <p:nvSpPr>
            <p:cNvPr id="237" name=""/>
            <p:cNvSpPr/>
            <p:nvPr/>
          </p:nvSpPr>
          <p:spPr>
            <a:xfrm>
              <a:off x="2759760" y="3308400"/>
              <a:ext cx="127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+3     +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606760" y="3733920"/>
              <a:ext cx="5331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597120" y="3733920"/>
              <a:ext cx="5335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345040" y="388620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     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074200" y="3886200"/>
            <a:ext cx="33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implify and solve for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971800" y="4419720"/>
            <a:ext cx="13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= </a:t>
            </a:r>
            <a:r>
              <a:rPr b="0" lang="en-US" sz="2400" spc="-1" strike="noStrike">
                <a:solidFill>
                  <a:srgbClr val="800080"/>
                </a:solidFill>
                <a:latin typeface="Verdana"/>
              </a:rPr>
              <a:t>–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2040" y="4892760"/>
            <a:ext cx="390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Write the solution as an ordered pa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770040" y="4876920"/>
            <a:ext cx="2526840" cy="459720"/>
            <a:chOff x="770040" y="4876920"/>
            <a:chExt cx="2526840" cy="459720"/>
          </a:xfrm>
        </p:grpSpPr>
        <p:sp>
          <p:nvSpPr>
            <p:cNvPr id="245" name=""/>
            <p:cNvSpPr/>
            <p:nvPr/>
          </p:nvSpPr>
          <p:spPr>
            <a:xfrm>
              <a:off x="770040" y="4876920"/>
              <a:ext cx="110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119320" y="4876920"/>
              <a:ext cx="117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0" lang="en-US" sz="2400" spc="-1" strike="noStrike">
                  <a:solidFill>
                    <a:srgbClr val="800080"/>
                  </a:solidFill>
                  <a:latin typeface="Verdana"/>
                </a:rPr>
                <a:t>–1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,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–3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5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685800" y="2209680"/>
            <a:ext cx="7854480" cy="1282680"/>
            <a:chOff x="685800" y="2209680"/>
            <a:chExt cx="7854480" cy="1282680"/>
          </a:xfrm>
        </p:grpSpPr>
        <p:sp>
          <p:nvSpPr>
            <p:cNvPr id="248" name=""/>
            <p:cNvSpPr/>
            <p:nvPr/>
          </p:nvSpPr>
          <p:spPr>
            <a:xfrm>
              <a:off x="691920" y="2666880"/>
              <a:ext cx="7848360" cy="825480"/>
            </a:xfrm>
            <a:prstGeom prst="rect">
              <a:avLst/>
            </a:pr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Remember to check by substituting your answer into both original equation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85800" y="2209680"/>
              <a:ext cx="2438280" cy="4597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Remember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600200"/>
            <a:ext cx="457200" cy="914400"/>
          </a:xfrm>
          <a:custGeom>
            <a:avLst/>
            <a:gdLst>
              <a:gd name="textAreaLeft" fmla="*/ 292320 w 457200"/>
              <a:gd name="textAreaRight" fmla="*/ 457560 w 4572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851120" y="160020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+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 =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144520" y="198108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 =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026720" y="1781280"/>
            <a:ext cx="557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lve                             by elimi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457200" y="2666880"/>
            <a:ext cx="4495680" cy="840960"/>
            <a:chOff x="457200" y="2666880"/>
            <a:chExt cx="4495680" cy="840960"/>
          </a:xfrm>
        </p:grpSpPr>
        <p:sp>
          <p:nvSpPr>
            <p:cNvPr id="256" name=""/>
            <p:cNvSpPr/>
            <p:nvPr/>
          </p:nvSpPr>
          <p:spPr>
            <a:xfrm>
              <a:off x="2536920" y="2666880"/>
              <a:ext cx="241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+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196000" y="304812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 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(–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5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57200" y="2666880"/>
              <a:ext cx="142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1752480" y="2895480"/>
            <a:ext cx="685440" cy="914400"/>
            <a:chOff x="1752480" y="2895480"/>
            <a:chExt cx="685440" cy="914400"/>
          </a:xfrm>
        </p:grpSpPr>
        <p:sp>
          <p:nvSpPr>
            <p:cNvPr id="260" name=""/>
            <p:cNvSpPr/>
            <p:nvPr/>
          </p:nvSpPr>
          <p:spPr>
            <a:xfrm flipH="1">
              <a:off x="1752480" y="2895480"/>
              <a:ext cx="685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752480" y="289548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752480" y="3809880"/>
              <a:ext cx="587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4952520" y="3276720"/>
            <a:ext cx="228960" cy="914400"/>
            <a:chOff x="4952520" y="3276720"/>
            <a:chExt cx="228960" cy="914400"/>
          </a:xfrm>
        </p:grpSpPr>
        <p:sp>
          <p:nvSpPr>
            <p:cNvPr id="264" name=""/>
            <p:cNvSpPr/>
            <p:nvPr/>
          </p:nvSpPr>
          <p:spPr>
            <a:xfrm>
              <a:off x="4952880" y="327672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181480" y="327672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952520" y="419112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2209680" y="3581280"/>
            <a:ext cx="2721240" cy="764640"/>
            <a:chOff x="2209680" y="3581280"/>
            <a:chExt cx="2721240" cy="764640"/>
          </a:xfrm>
        </p:grpSpPr>
        <p:sp>
          <p:nvSpPr>
            <p:cNvPr id="268" name=""/>
            <p:cNvSpPr/>
            <p:nvPr/>
          </p:nvSpPr>
          <p:spPr>
            <a:xfrm>
              <a:off x="2514600" y="3581280"/>
              <a:ext cx="241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+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434320" y="3886200"/>
              <a:ext cx="20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209680" y="4343400"/>
              <a:ext cx="2667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5562720" y="2971800"/>
            <a:ext cx="355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Add the opposite of each term in the second equ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563440" y="4267080"/>
            <a:ext cx="29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Eliminate the y te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564520" y="4724280"/>
            <a:ext cx="33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implify and solve for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03440" y="4267080"/>
            <a:ext cx="229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  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3051000" y="4724280"/>
            <a:ext cx="1901880" cy="916920"/>
            <a:chOff x="3051000" y="4724280"/>
            <a:chExt cx="1901880" cy="916920"/>
          </a:xfrm>
        </p:grpSpPr>
        <p:sp>
          <p:nvSpPr>
            <p:cNvPr id="276" name=""/>
            <p:cNvSpPr/>
            <p:nvPr/>
          </p:nvSpPr>
          <p:spPr>
            <a:xfrm>
              <a:off x="3051000" y="4724280"/>
              <a:ext cx="190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= 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618720" y="5181480"/>
              <a:ext cx="91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457200" y="4267080"/>
            <a:ext cx="14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35080" y="3505320"/>
            <a:ext cx="2895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7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2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072040" y="182880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one of the original equ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071680" y="2514600"/>
            <a:ext cx="25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ubstitute 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4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 for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072040" y="3200400"/>
            <a:ext cx="39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ubtract 12 from both s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457200" y="1981080"/>
            <a:ext cx="3716280" cy="459720"/>
            <a:chOff x="457200" y="1981080"/>
            <a:chExt cx="3716280" cy="459720"/>
          </a:xfrm>
        </p:grpSpPr>
        <p:sp>
          <p:nvSpPr>
            <p:cNvPr id="285" name=""/>
            <p:cNvSpPr/>
            <p:nvPr/>
          </p:nvSpPr>
          <p:spPr>
            <a:xfrm>
              <a:off x="457200" y="1981080"/>
              <a:ext cx="142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343240" y="1981080"/>
              <a:ext cx="183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x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+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2121120" y="2514600"/>
            <a:ext cx="20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(4)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2058840" y="3124080"/>
            <a:ext cx="2286000" cy="1221480"/>
            <a:chOff x="2058840" y="3124080"/>
            <a:chExt cx="2286000" cy="1221480"/>
          </a:xfrm>
        </p:grpSpPr>
        <p:sp>
          <p:nvSpPr>
            <p:cNvPr id="289" name=""/>
            <p:cNvSpPr/>
            <p:nvPr/>
          </p:nvSpPr>
          <p:spPr>
            <a:xfrm>
              <a:off x="2336760" y="3124080"/>
              <a:ext cx="185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+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131560" y="3536640"/>
              <a:ext cx="205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12           –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058840" y="3962160"/>
              <a:ext cx="6098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735360" y="3962160"/>
              <a:ext cx="6094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97440" y="3885840"/>
              <a:ext cx="100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3265560" y="434340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= </a:t>
            </a:r>
            <a:r>
              <a:rPr b="0" lang="en-US" sz="2400" spc="-1" strike="noStrike">
                <a:solidFill>
                  <a:srgbClr val="80008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074200" y="3962520"/>
            <a:ext cx="33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implify and solve for 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457200" y="4876920"/>
            <a:ext cx="8516880" cy="841320"/>
            <a:chOff x="457200" y="4876920"/>
            <a:chExt cx="8516880" cy="841320"/>
          </a:xfrm>
        </p:grpSpPr>
        <p:sp>
          <p:nvSpPr>
            <p:cNvPr id="297" name=""/>
            <p:cNvSpPr/>
            <p:nvPr/>
          </p:nvSpPr>
          <p:spPr>
            <a:xfrm>
              <a:off x="5072040" y="4892760"/>
              <a:ext cx="3902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7760" indent="-3477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Write the solution as an ordered pai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124080" y="4876920"/>
              <a:ext cx="119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, </a:t>
              </a:r>
              <a:r>
                <a:rPr b="0" lang="en-US" sz="2400" spc="-1" strike="noStrike">
                  <a:solidFill>
                    <a:srgbClr val="800080"/>
                  </a:solidFill>
                  <a:latin typeface="Verdana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57200" y="4876920"/>
              <a:ext cx="142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6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8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00"/>
                            </p:stCondLst>
                            <p:childTnLst>
                              <p:par>
                                <p:cTn id="5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914400" y="2043000"/>
            <a:ext cx="7467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some cases, you will first need to multiply one or both of the equations by a number so that one variable has opposite coefficients. This will be the new Step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990720" y="2057400"/>
            <a:ext cx="457200" cy="914400"/>
          </a:xfrm>
          <a:custGeom>
            <a:avLst/>
            <a:gdLst>
              <a:gd name="textAreaLeft" fmla="*/ 292320 w 457200"/>
              <a:gd name="textAreaRight" fmla="*/ 457560 w 4572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447920" y="2057400"/>
            <a:ext cx="241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+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 =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512720" y="24382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 =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47440" y="1523880"/>
            <a:ext cx="51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lve the system by elimi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A: Elimination Using Multiplication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105520" y="2927520"/>
            <a:ext cx="431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Multiply each term in the second equation by 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–2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 to get opposite y-coeffici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304920" y="3048120"/>
            <a:ext cx="4473360" cy="840600"/>
            <a:chOff x="304920" y="3048120"/>
            <a:chExt cx="4473360" cy="840600"/>
          </a:xfrm>
        </p:grpSpPr>
        <p:sp>
          <p:nvSpPr>
            <p:cNvPr id="308" name=""/>
            <p:cNvSpPr/>
            <p:nvPr/>
          </p:nvSpPr>
          <p:spPr>
            <a:xfrm>
              <a:off x="2362320" y="3048120"/>
              <a:ext cx="241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+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04920" y="3052800"/>
              <a:ext cx="13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860840" y="3429000"/>
              <a:ext cx="237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 –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(–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5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1600200" y="3276720"/>
            <a:ext cx="685440" cy="914400"/>
            <a:chOff x="1600200" y="3276720"/>
            <a:chExt cx="685440" cy="914400"/>
          </a:xfrm>
        </p:grpSpPr>
        <p:sp>
          <p:nvSpPr>
            <p:cNvPr id="312" name=""/>
            <p:cNvSpPr/>
            <p:nvPr/>
          </p:nvSpPr>
          <p:spPr>
            <a:xfrm flipH="1">
              <a:off x="1600200" y="3276720"/>
              <a:ext cx="685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600200" y="327672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600200" y="4191120"/>
              <a:ext cx="587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4723920" y="3657600"/>
            <a:ext cx="228960" cy="914400"/>
            <a:chOff x="4723920" y="3657600"/>
            <a:chExt cx="228960" cy="914400"/>
          </a:xfrm>
        </p:grpSpPr>
        <p:sp>
          <p:nvSpPr>
            <p:cNvPr id="316" name=""/>
            <p:cNvSpPr/>
            <p:nvPr/>
          </p:nvSpPr>
          <p:spPr>
            <a:xfrm>
              <a:off x="4724280" y="365760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952880" y="365760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4723920" y="457200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1981080" y="3929040"/>
            <a:ext cx="2797200" cy="871560"/>
            <a:chOff x="1981080" y="3929040"/>
            <a:chExt cx="2797200" cy="871560"/>
          </a:xfrm>
        </p:grpSpPr>
        <p:sp>
          <p:nvSpPr>
            <p:cNvPr id="320" name=""/>
            <p:cNvSpPr/>
            <p:nvPr/>
          </p:nvSpPr>
          <p:spPr>
            <a:xfrm>
              <a:off x="2362320" y="3929040"/>
              <a:ext cx="241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+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 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205360" y="4314960"/>
              <a:ext cx="22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+(6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+1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981080" y="4800600"/>
              <a:ext cx="2743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5105520" y="4282920"/>
            <a:ext cx="35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Add the new equation to the first equ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275560" y="4756320"/>
            <a:ext cx="192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+   0 = 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304920" y="5181480"/>
            <a:ext cx="4168800" cy="916920"/>
            <a:chOff x="304920" y="5181480"/>
            <a:chExt cx="4168800" cy="916920"/>
          </a:xfrm>
        </p:grpSpPr>
        <p:sp>
          <p:nvSpPr>
            <p:cNvPr id="326" name=""/>
            <p:cNvSpPr/>
            <p:nvPr/>
          </p:nvSpPr>
          <p:spPr>
            <a:xfrm>
              <a:off x="304920" y="5181480"/>
              <a:ext cx="13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146760" y="5181480"/>
              <a:ext cx="118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200400" y="5638680"/>
              <a:ext cx="127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5105520" y="5181480"/>
            <a:ext cx="34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implify and solve for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676520" y="3886200"/>
            <a:ext cx="2895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9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3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990720"/>
            <a:ext cx="8305920" cy="52578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mplify each expre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3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+ 2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 2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5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 + 2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+ 5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4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+ 6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3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 +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 4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2(4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2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67960" y="2237760"/>
            <a:ext cx="73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–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2</a:t>
            </a:r>
            <a:r>
              <a:rPr b="0" i="1" lang="en-US" sz="2800" spc="-1" strike="noStrike">
                <a:solidFill>
                  <a:srgbClr val="ff3300"/>
                </a:solidFill>
                <a:latin typeface="Verdana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69560" y="2790000"/>
            <a:ext cx="5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7</a:t>
            </a:r>
            <a:r>
              <a:rPr b="0" i="1" lang="en-US" sz="2800" spc="-1" strike="noStrike">
                <a:solidFill>
                  <a:srgbClr val="ff3300"/>
                </a:solidFill>
                <a:latin typeface="Verdana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747680" y="3380760"/>
            <a:ext cx="34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Verdana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35240" y="4019400"/>
            <a:ext cx="7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–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6</a:t>
            </a: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23680" y="4572000"/>
            <a:ext cx="61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rite the least common multi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2280" y="5119560"/>
            <a:ext cx="48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12280" y="5729400"/>
            <a:ext cx="48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47480" y="5133960"/>
            <a:ext cx="48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47480" y="5729400"/>
            <a:ext cx="48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59840" y="5129280"/>
            <a:ext cx="140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 and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59840" y="5729400"/>
            <a:ext cx="140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6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28880" y="5133960"/>
            <a:ext cx="161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 and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17360" y="5729400"/>
            <a:ext cx="140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 and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03680" y="5129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44000" y="57294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476040" y="513396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552360" y="574344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A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190512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one of the original equ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1059120" y="2070000"/>
            <a:ext cx="3436560" cy="462960"/>
            <a:chOff x="1059120" y="2070000"/>
            <a:chExt cx="3436560" cy="462960"/>
          </a:xfrm>
        </p:grpSpPr>
        <p:sp>
          <p:nvSpPr>
            <p:cNvPr id="334" name=""/>
            <p:cNvSpPr/>
            <p:nvPr/>
          </p:nvSpPr>
          <p:spPr>
            <a:xfrm>
              <a:off x="1059120" y="2073240"/>
              <a:ext cx="110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308320" y="2070000"/>
              <a:ext cx="21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+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5028120" y="2575080"/>
            <a:ext cx="26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ubstitute 3 for x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0" y="2575080"/>
            <a:ext cx="24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29560" y="295596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ubtract 3 from each s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2133720" y="2911320"/>
            <a:ext cx="2286000" cy="856440"/>
            <a:chOff x="2133720" y="2911320"/>
            <a:chExt cx="2286000" cy="856440"/>
          </a:xfrm>
        </p:grpSpPr>
        <p:sp>
          <p:nvSpPr>
            <p:cNvPr id="340" name=""/>
            <p:cNvSpPr/>
            <p:nvPr/>
          </p:nvSpPr>
          <p:spPr>
            <a:xfrm>
              <a:off x="2292480" y="2911320"/>
              <a:ext cx="178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3            –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133720" y="3336840"/>
              <a:ext cx="5331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886200" y="3336840"/>
              <a:ext cx="5335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015000" y="3308040"/>
              <a:ext cx="116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3281400" y="37180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= </a:t>
            </a:r>
            <a:r>
              <a:rPr b="0" lang="en-US" sz="2400" spc="-1" strike="noStrike">
                <a:solidFill>
                  <a:srgbClr val="800080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031000" y="3352680"/>
            <a:ext cx="33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implify and solve for 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029200" y="4343400"/>
            <a:ext cx="382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the solution as an ordered pa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1074960" y="4327560"/>
            <a:ext cx="2545920" cy="459720"/>
            <a:chOff x="1074960" y="4327560"/>
            <a:chExt cx="2545920" cy="459720"/>
          </a:xfrm>
        </p:grpSpPr>
        <p:sp>
          <p:nvSpPr>
            <p:cNvPr id="348" name=""/>
            <p:cNvSpPr/>
            <p:nvPr/>
          </p:nvSpPr>
          <p:spPr>
            <a:xfrm>
              <a:off x="1074960" y="4327560"/>
              <a:ext cx="110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47880" y="4327560"/>
              <a:ext cx="87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, </a:t>
              </a:r>
              <a:r>
                <a:rPr b="0" lang="en-US" sz="2400" spc="-1" strike="noStrike">
                  <a:solidFill>
                    <a:srgbClr val="800080"/>
                  </a:solidFill>
                  <a:latin typeface="Verdana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0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0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7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990720" y="2057400"/>
            <a:ext cx="457200" cy="914400"/>
          </a:xfrm>
          <a:custGeom>
            <a:avLst/>
            <a:gdLst>
              <a:gd name="textAreaLeft" fmla="*/ 292320 w 457200"/>
              <a:gd name="textAreaRight" fmla="*/ 457560 w 4572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241280" y="2057400"/>
            <a:ext cx="27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+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 =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796400" y="2514600"/>
            <a:ext cx="186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 =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47440" y="1523880"/>
            <a:ext cx="51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lve the system by elimi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B: Elimination Using Multiplication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617760" y="3200400"/>
            <a:ext cx="4563720" cy="885240"/>
            <a:chOff x="617760" y="3200400"/>
            <a:chExt cx="4563720" cy="885240"/>
          </a:xfrm>
        </p:grpSpPr>
        <p:sp>
          <p:nvSpPr>
            <p:cNvPr id="356" name=""/>
            <p:cNvSpPr/>
            <p:nvPr/>
          </p:nvSpPr>
          <p:spPr>
            <a:xfrm>
              <a:off x="617760" y="3200400"/>
              <a:ext cx="110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155680" y="3244680"/>
              <a:ext cx="302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(–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+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2)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400120" y="3625920"/>
              <a:ext cx="234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5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(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 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486400" y="3048120"/>
            <a:ext cx="371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Multiply the first equation by 2 and the second equation by 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5 to get opposite x-coeffici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2295360" y="4114800"/>
            <a:ext cx="2733840" cy="957240"/>
            <a:chOff x="2295360" y="4114800"/>
            <a:chExt cx="2733840" cy="957240"/>
          </a:xfrm>
        </p:grpSpPr>
        <p:sp>
          <p:nvSpPr>
            <p:cNvPr id="361" name=""/>
            <p:cNvSpPr/>
            <p:nvPr/>
          </p:nvSpPr>
          <p:spPr>
            <a:xfrm>
              <a:off x="2554920" y="4114800"/>
              <a:ext cx="215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0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+ 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 6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295360" y="4572000"/>
              <a:ext cx="253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+(10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+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5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438280" y="5072040"/>
              <a:ext cx="2590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1828800" y="3473280"/>
            <a:ext cx="380880" cy="914400"/>
            <a:chOff x="1828800" y="3473280"/>
            <a:chExt cx="380880" cy="914400"/>
          </a:xfrm>
        </p:grpSpPr>
        <p:sp>
          <p:nvSpPr>
            <p:cNvPr id="365" name=""/>
            <p:cNvSpPr/>
            <p:nvPr/>
          </p:nvSpPr>
          <p:spPr>
            <a:xfrm flipH="1">
              <a:off x="1828800" y="347328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828800" y="347328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828800" y="4387680"/>
              <a:ext cx="326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105160" y="3897360"/>
            <a:ext cx="228960" cy="914400"/>
            <a:chOff x="5105160" y="3897360"/>
            <a:chExt cx="228960" cy="914400"/>
          </a:xfrm>
        </p:grpSpPr>
        <p:sp>
          <p:nvSpPr>
            <p:cNvPr id="369" name=""/>
            <p:cNvSpPr/>
            <p:nvPr/>
          </p:nvSpPr>
          <p:spPr>
            <a:xfrm>
              <a:off x="5105520" y="389736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4120" y="389736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5105160" y="481176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5490000" y="4687920"/>
            <a:ext cx="33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Add the new equ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486400" y="518148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implify and solve for 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526200" y="5105520"/>
            <a:ext cx="152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9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886200" y="556272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800080"/>
                </a:solidFill>
                <a:latin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17760" y="5105520"/>
            <a:ext cx="11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035080" y="4114800"/>
            <a:ext cx="2895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0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7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8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1000"/>
                            </p:stCondLst>
                            <p:childTnLst>
                              <p:par>
                                <p:cTn id="6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B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072040" y="182880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one of the original equ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693720" y="1901880"/>
            <a:ext cx="3953880" cy="462600"/>
            <a:chOff x="693720" y="1901880"/>
            <a:chExt cx="3953880" cy="462600"/>
          </a:xfrm>
        </p:grpSpPr>
        <p:sp>
          <p:nvSpPr>
            <p:cNvPr id="381" name=""/>
            <p:cNvSpPr/>
            <p:nvPr/>
          </p:nvSpPr>
          <p:spPr>
            <a:xfrm>
              <a:off x="693720" y="1904760"/>
              <a:ext cx="110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138760" y="1901880"/>
              <a:ext cx="250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+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0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5070960" y="2517840"/>
            <a:ext cx="26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ubstitute 6 for 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905120" y="24382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800080"/>
                </a:solidFill>
                <a:latin typeface="Verdana"/>
              </a:rPr>
              <a:t>(6)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072040" y="3336840"/>
            <a:ext cx="39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ubtract 18 from both s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45520" y="3213000"/>
            <a:ext cx="1474200" cy="936000"/>
            <a:chOff x="2945520" y="3213000"/>
            <a:chExt cx="1474200" cy="936000"/>
          </a:xfrm>
        </p:grpSpPr>
        <p:sp>
          <p:nvSpPr>
            <p:cNvPr id="387" name=""/>
            <p:cNvSpPr/>
            <p:nvPr/>
          </p:nvSpPr>
          <p:spPr>
            <a:xfrm>
              <a:off x="2945520" y="3213000"/>
              <a:ext cx="141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18   –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048120" y="3638520"/>
              <a:ext cx="5331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886200" y="3638520"/>
              <a:ext cx="5335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142800" y="3689280"/>
              <a:ext cx="124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"/>
          <p:cNvSpPr/>
          <p:nvPr/>
        </p:nvSpPr>
        <p:spPr>
          <a:xfrm>
            <a:off x="2209680" y="287964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8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452040" y="4098960"/>
            <a:ext cx="98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–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072040" y="4098960"/>
            <a:ext cx="34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implify and solve for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770040" y="4511520"/>
            <a:ext cx="8051400" cy="885960"/>
            <a:chOff x="770040" y="4511520"/>
            <a:chExt cx="8051400" cy="885960"/>
          </a:xfrm>
        </p:grpSpPr>
        <p:sp>
          <p:nvSpPr>
            <p:cNvPr id="395" name=""/>
            <p:cNvSpPr/>
            <p:nvPr/>
          </p:nvSpPr>
          <p:spPr>
            <a:xfrm>
              <a:off x="770040" y="4556160"/>
              <a:ext cx="110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995720" y="4572000"/>
              <a:ext cx="3825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7760" indent="-3477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ff"/>
                  </a:solidFill>
                  <a:latin typeface="Arial"/>
                </a:rPr>
                <a:t>Write the solution as an ordered pair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011400" y="4511520"/>
              <a:ext cx="110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–4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, </a:t>
              </a:r>
              <a:r>
                <a:rPr b="0" lang="en-US" sz="2400" spc="-1" strike="noStrike">
                  <a:solidFill>
                    <a:srgbClr val="800080"/>
                  </a:solidFill>
                  <a:latin typeface="Verdana"/>
                </a:rPr>
                <a:t>6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0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8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5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93440" y="1479600"/>
            <a:ext cx="51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lve the system by elimi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990720" y="2057400"/>
            <a:ext cx="457200" cy="914400"/>
          </a:xfrm>
          <a:custGeom>
            <a:avLst/>
            <a:gdLst>
              <a:gd name="textAreaLeft" fmla="*/ 292320 w 457200"/>
              <a:gd name="textAreaRight" fmla="*/ 457560 w 4572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295280" y="2057400"/>
            <a:ext cx="27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+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 =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567080" y="2514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 =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1752480" y="3352680"/>
            <a:ext cx="381240" cy="914400"/>
            <a:chOff x="1752480" y="3352680"/>
            <a:chExt cx="381240" cy="914400"/>
          </a:xfrm>
        </p:grpSpPr>
        <p:sp>
          <p:nvSpPr>
            <p:cNvPr id="404" name=""/>
            <p:cNvSpPr/>
            <p:nvPr/>
          </p:nvSpPr>
          <p:spPr>
            <a:xfrm flipH="1">
              <a:off x="1752480" y="3352680"/>
              <a:ext cx="296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752480" y="335268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752480" y="4267080"/>
              <a:ext cx="381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4572000" y="3733920"/>
            <a:ext cx="304920" cy="914400"/>
            <a:chOff x="4572000" y="3733920"/>
            <a:chExt cx="304920" cy="914400"/>
          </a:xfrm>
        </p:grpSpPr>
        <p:sp>
          <p:nvSpPr>
            <p:cNvPr id="408" name=""/>
            <p:cNvSpPr/>
            <p:nvPr/>
          </p:nvSpPr>
          <p:spPr>
            <a:xfrm>
              <a:off x="4876920" y="373392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4647960" y="464832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572000" y="374796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380880" y="3124080"/>
            <a:ext cx="4038840" cy="855000"/>
            <a:chOff x="380880" y="3124080"/>
            <a:chExt cx="4038840" cy="855000"/>
          </a:xfrm>
        </p:grpSpPr>
        <p:sp>
          <p:nvSpPr>
            <p:cNvPr id="412" name=""/>
            <p:cNvSpPr/>
            <p:nvPr/>
          </p:nvSpPr>
          <p:spPr>
            <a:xfrm>
              <a:off x="380880" y="3124080"/>
              <a:ext cx="134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155680" y="3138480"/>
              <a:ext cx="226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+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225520" y="3519360"/>
              <a:ext cx="197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(–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1719360" y="4038480"/>
            <a:ext cx="3047760" cy="1329840"/>
            <a:chOff x="1719360" y="4038480"/>
            <a:chExt cx="3047760" cy="1329840"/>
          </a:xfrm>
        </p:grpSpPr>
        <p:sp>
          <p:nvSpPr>
            <p:cNvPr id="416" name=""/>
            <p:cNvSpPr/>
            <p:nvPr/>
          </p:nvSpPr>
          <p:spPr>
            <a:xfrm>
              <a:off x="2174760" y="4038480"/>
              <a:ext cx="239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+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 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839960" y="4448160"/>
              <a:ext cx="231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+(–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6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719360" y="4919760"/>
              <a:ext cx="3047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221560" y="4908600"/>
              <a:ext cx="174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0    + 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4894200" y="2927520"/>
            <a:ext cx="432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Multiply each term in the second equation by 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3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 to get opposite x-coeffici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894200" y="4359240"/>
            <a:ext cx="355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Add the new equation to the first equ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74840" y="5410080"/>
            <a:ext cx="7902360" cy="916920"/>
            <a:chOff x="474840" y="5410080"/>
            <a:chExt cx="7902360" cy="916920"/>
          </a:xfrm>
        </p:grpSpPr>
        <p:sp>
          <p:nvSpPr>
            <p:cNvPr id="423" name=""/>
            <p:cNvSpPr/>
            <p:nvPr/>
          </p:nvSpPr>
          <p:spPr>
            <a:xfrm>
              <a:off x="4894200" y="5457960"/>
              <a:ext cx="348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ff"/>
                  </a:solidFill>
                  <a:latin typeface="Arial"/>
                </a:rPr>
                <a:t>Simplify and solve for y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111840" y="5410080"/>
              <a:ext cx="100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278160" y="5867280"/>
              <a:ext cx="8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800080"/>
                  </a:solidFill>
                  <a:latin typeface="Verdana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74840" y="5410080"/>
              <a:ext cx="110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1752480" y="3962520"/>
            <a:ext cx="2895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6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3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6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9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2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a Continu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072040" y="184464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one of the original equ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846360" y="2009880"/>
            <a:ext cx="3664800" cy="462600"/>
            <a:chOff x="846360" y="2009880"/>
            <a:chExt cx="3664800" cy="462600"/>
          </a:xfrm>
        </p:grpSpPr>
        <p:sp>
          <p:nvSpPr>
            <p:cNvPr id="431" name=""/>
            <p:cNvSpPr/>
            <p:nvPr/>
          </p:nvSpPr>
          <p:spPr>
            <a:xfrm>
              <a:off x="846360" y="2012760"/>
              <a:ext cx="110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181960" y="2009880"/>
              <a:ext cx="232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+ y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5070960" y="2533680"/>
            <a:ext cx="26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ubstitute 0 for 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743120" y="2514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800080"/>
                </a:solidFill>
                <a:latin typeface="Verdana"/>
              </a:rPr>
              <a:t>(0)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181240" y="29718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983680" y="3429000"/>
            <a:ext cx="113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072040" y="2971800"/>
            <a:ext cx="34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implify and solve for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846360" y="4267080"/>
            <a:ext cx="8051400" cy="841320"/>
            <a:chOff x="846360" y="4267080"/>
            <a:chExt cx="8051400" cy="841320"/>
          </a:xfrm>
        </p:grpSpPr>
        <p:sp>
          <p:nvSpPr>
            <p:cNvPr id="439" name=""/>
            <p:cNvSpPr/>
            <p:nvPr/>
          </p:nvSpPr>
          <p:spPr>
            <a:xfrm>
              <a:off x="846360" y="4267080"/>
              <a:ext cx="110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072040" y="4282920"/>
              <a:ext cx="3825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7760" indent="-3477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ff"/>
                  </a:solidFill>
                  <a:latin typeface="Arial"/>
                </a:rPr>
                <a:t>Write the solution as an ordered pair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067200" y="4314960"/>
              <a:ext cx="95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, </a:t>
              </a:r>
              <a:r>
                <a:rPr b="0" lang="en-US" sz="2400" spc="-1" strike="noStrike">
                  <a:solidFill>
                    <a:srgbClr val="800080"/>
                  </a:solidFill>
                  <a:latin typeface="Verdana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3142440" y="3809880"/>
            <a:ext cx="83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1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500"/>
                            </p:stCondLst>
                            <p:childTnLst>
                              <p:par>
                                <p:cTn id="84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1500"/>
                            </p:stCondLst>
                            <p:childTnLst>
                              <p:par>
                                <p:cTn id="85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5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304640" y="1479600"/>
            <a:ext cx="51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lve the system by elimi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990720" y="2057400"/>
            <a:ext cx="457200" cy="914400"/>
          </a:xfrm>
          <a:custGeom>
            <a:avLst/>
            <a:gdLst>
              <a:gd name="textAreaLeft" fmla="*/ 292320 w 457200"/>
              <a:gd name="textAreaRight" fmla="*/ 457560 w 4572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241280" y="2057400"/>
            <a:ext cx="27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+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 =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6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619640" y="2514600"/>
            <a:ext cx="21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– 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 =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389160" y="3200400"/>
            <a:ext cx="5020920" cy="504000"/>
            <a:chOff x="389160" y="3200400"/>
            <a:chExt cx="5020920" cy="504000"/>
          </a:xfrm>
        </p:grpSpPr>
        <p:sp>
          <p:nvSpPr>
            <p:cNvPr id="449" name=""/>
            <p:cNvSpPr/>
            <p:nvPr/>
          </p:nvSpPr>
          <p:spPr>
            <a:xfrm>
              <a:off x="389160" y="3200400"/>
              <a:ext cx="110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232000" y="3244680"/>
              <a:ext cx="317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(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+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6)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1851120" y="3625920"/>
            <a:ext cx="28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2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–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2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522760" y="3048120"/>
            <a:ext cx="371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Multiply the first equation by 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3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 and the second equation by 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2 to get opposite x-coeffici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734560" y="411480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1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=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56720" y="4572000"/>
            <a:ext cx="26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(–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5409720" y="3897360"/>
            <a:ext cx="228960" cy="914400"/>
            <a:chOff x="5409720" y="3897360"/>
            <a:chExt cx="228960" cy="914400"/>
          </a:xfrm>
        </p:grpSpPr>
        <p:sp>
          <p:nvSpPr>
            <p:cNvPr id="456" name=""/>
            <p:cNvSpPr/>
            <p:nvPr/>
          </p:nvSpPr>
          <p:spPr>
            <a:xfrm>
              <a:off x="5410080" y="389736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638680" y="389736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5409720" y="481176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1557360" y="3457440"/>
            <a:ext cx="700200" cy="947880"/>
            <a:chOff x="1557360" y="3457440"/>
            <a:chExt cx="700200" cy="947880"/>
          </a:xfrm>
        </p:grpSpPr>
        <p:sp>
          <p:nvSpPr>
            <p:cNvPr id="460" name=""/>
            <p:cNvSpPr/>
            <p:nvPr/>
          </p:nvSpPr>
          <p:spPr>
            <a:xfrm>
              <a:off x="1571760" y="347328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71760" y="4405320"/>
              <a:ext cx="685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57360" y="345744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5526720" y="4648320"/>
            <a:ext cx="33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Add the new equ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522760" y="5486400"/>
            <a:ext cx="340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implify and solve for 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010040" y="5486400"/>
            <a:ext cx="90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 = </a:t>
            </a:r>
            <a:r>
              <a:rPr b="0" lang="en-US" sz="2400" spc="-1" strike="noStrike">
                <a:solidFill>
                  <a:srgbClr val="800080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389160" y="5029200"/>
            <a:ext cx="5020920" cy="491400"/>
            <a:chOff x="389160" y="5029200"/>
            <a:chExt cx="5020920" cy="491400"/>
          </a:xfrm>
        </p:grpSpPr>
        <p:sp>
          <p:nvSpPr>
            <p:cNvPr id="467" name=""/>
            <p:cNvSpPr/>
            <p:nvPr/>
          </p:nvSpPr>
          <p:spPr>
            <a:xfrm>
              <a:off x="2548080" y="5029200"/>
              <a:ext cx="2590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800440" y="5060880"/>
              <a:ext cx="260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0   + 7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89160" y="5029200"/>
              <a:ext cx="110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"/>
          <p:cNvSpPr/>
          <p:nvPr/>
        </p:nvSpPr>
        <p:spPr>
          <a:xfrm>
            <a:off x="1600200" y="4114800"/>
            <a:ext cx="3429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7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5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8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8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5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2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2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b Continu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541840" y="1752480"/>
            <a:ext cx="345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one of the original equ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846360" y="1917720"/>
            <a:ext cx="3725640" cy="462960"/>
            <a:chOff x="846360" y="1917720"/>
            <a:chExt cx="3725640" cy="462960"/>
          </a:xfrm>
        </p:grpSpPr>
        <p:sp>
          <p:nvSpPr>
            <p:cNvPr id="474" name=""/>
            <p:cNvSpPr/>
            <p:nvPr/>
          </p:nvSpPr>
          <p:spPr>
            <a:xfrm>
              <a:off x="846360" y="1920960"/>
              <a:ext cx="110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182680" y="1917720"/>
              <a:ext cx="238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+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6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5541840" y="2441520"/>
            <a:ext cx="29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ubstitute 4 for 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905120" y="242244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400" spc="-1" strike="noStrike">
                <a:solidFill>
                  <a:srgbClr val="800080"/>
                </a:solidFill>
                <a:latin typeface="Verdana"/>
              </a:rPr>
              <a:t>(4)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541840" y="3718080"/>
            <a:ext cx="357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implify and solve for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846360" y="4419720"/>
            <a:ext cx="8292960" cy="825480"/>
            <a:chOff x="846360" y="4419720"/>
            <a:chExt cx="8292960" cy="825480"/>
          </a:xfrm>
        </p:grpSpPr>
        <p:sp>
          <p:nvSpPr>
            <p:cNvPr id="480" name=""/>
            <p:cNvSpPr/>
            <p:nvPr/>
          </p:nvSpPr>
          <p:spPr>
            <a:xfrm>
              <a:off x="846360" y="4432320"/>
              <a:ext cx="110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541840" y="4419720"/>
              <a:ext cx="3597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7760" indent="-3477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ff"/>
                  </a:solidFill>
                  <a:latin typeface="Arial"/>
                </a:rPr>
                <a:t>Write the solution as an ordered pair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067200" y="4460760"/>
              <a:ext cx="95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, </a:t>
              </a:r>
              <a:r>
                <a:rPr b="0" lang="en-US" sz="2400" spc="-1" strike="noStrike">
                  <a:solidFill>
                    <a:srgbClr val="800080"/>
                  </a:solidFill>
                  <a:latin typeface="Verdana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"/>
          <p:cNvSpPr/>
          <p:nvPr/>
        </p:nvSpPr>
        <p:spPr>
          <a:xfrm>
            <a:off x="3294720" y="4022640"/>
            <a:ext cx="83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= 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2181240" y="2879640"/>
            <a:ext cx="2590920" cy="1221840"/>
            <a:chOff x="2181240" y="2879640"/>
            <a:chExt cx="2590920" cy="1221840"/>
          </a:xfrm>
        </p:grpSpPr>
        <p:sp>
          <p:nvSpPr>
            <p:cNvPr id="485" name=""/>
            <p:cNvSpPr/>
            <p:nvPr/>
          </p:nvSpPr>
          <p:spPr>
            <a:xfrm>
              <a:off x="2181240" y="287964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+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0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813040" y="3232080"/>
              <a:ext cx="195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20   –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971800" y="3641760"/>
              <a:ext cx="6094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886200" y="3674880"/>
              <a:ext cx="6094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438280" y="3641760"/>
              <a:ext cx="203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     = 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5541840" y="2955960"/>
            <a:ext cx="355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ubtract 20 from both s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0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4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4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1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1000"/>
                            </p:stCondLst>
                            <p:childTnLst>
                              <p:par>
                                <p:cTn id="96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2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4: </a:t>
            </a:r>
            <a:r>
              <a:rPr b="0" i="1" lang="en-US" sz="2400" spc="-1" strike="noStrike">
                <a:solidFill>
                  <a:srgbClr val="ff0000"/>
                </a:solidFill>
                <a:latin typeface="Arial Black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09480" y="1523880"/>
            <a:ext cx="794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ige has $7.75 to buy 12 sheets of felt and card stock for her scrapbook. The felt costs $0.50 per sheet, and the card stock costs $0.75 per sheet. How many sheets of each can Paige bu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38080" y="35164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e a system. Us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or the number of felt sheets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or the number of card stock shee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968760" y="4719600"/>
            <a:ext cx="28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.5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0.7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7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729320" y="4719600"/>
            <a:ext cx="393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The cost of felt and card stock totals $7.7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286000" y="5481720"/>
            <a:ext cx="15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 + c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729320" y="5486400"/>
            <a:ext cx="39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The total number of sheets is 1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9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4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1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6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3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4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12840" y="1708200"/>
            <a:ext cx="11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235600" y="1733400"/>
            <a:ext cx="28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.5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0.7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7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918440" y="2209680"/>
            <a:ext cx="28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–0.50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 + 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248440" y="175248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Multiply the second equation by 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–0.50 to get opposite f-coeffici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1538280" y="2023920"/>
            <a:ext cx="700200" cy="947880"/>
            <a:chOff x="1538280" y="2023920"/>
            <a:chExt cx="700200" cy="947880"/>
          </a:xfrm>
        </p:grpSpPr>
        <p:sp>
          <p:nvSpPr>
            <p:cNvPr id="504" name=""/>
            <p:cNvSpPr/>
            <p:nvPr/>
          </p:nvSpPr>
          <p:spPr>
            <a:xfrm>
              <a:off x="1552680" y="203976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552680" y="2971800"/>
              <a:ext cx="685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538280" y="202392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2478600" y="2743200"/>
            <a:ext cx="28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.5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0.7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7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909440" y="3124080"/>
            <a:ext cx="32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–0.5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0.5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6)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5105520" y="2438280"/>
            <a:ext cx="533160" cy="914400"/>
            <a:chOff x="5105520" y="2438280"/>
            <a:chExt cx="533160" cy="914400"/>
          </a:xfrm>
        </p:grpSpPr>
        <p:sp>
          <p:nvSpPr>
            <p:cNvPr id="510" name=""/>
            <p:cNvSpPr/>
            <p:nvPr/>
          </p:nvSpPr>
          <p:spPr>
            <a:xfrm>
              <a:off x="5105520" y="2438280"/>
              <a:ext cx="53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638680" y="243828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5410080" y="3352680"/>
              <a:ext cx="228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5622840" y="2935440"/>
            <a:ext cx="359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Add this equation to the first equation to eliminate the f-te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50240" y="4038480"/>
            <a:ext cx="33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implify and solve for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12840" y="3581280"/>
            <a:ext cx="11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1600200" y="3519360"/>
            <a:ext cx="3698640" cy="459720"/>
            <a:chOff x="1600200" y="3519360"/>
            <a:chExt cx="3698640" cy="459720"/>
          </a:xfrm>
        </p:grpSpPr>
        <p:sp>
          <p:nvSpPr>
            <p:cNvPr id="517" name=""/>
            <p:cNvSpPr/>
            <p:nvPr/>
          </p:nvSpPr>
          <p:spPr>
            <a:xfrm>
              <a:off x="1600200" y="3581280"/>
              <a:ext cx="3657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440520" y="3519360"/>
              <a:ext cx="185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0.2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1.7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3858120" y="4038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 = </a:t>
            </a:r>
            <a:r>
              <a:rPr b="0" i="1" lang="en-US" sz="2400" spc="-1" strike="noStrike">
                <a:solidFill>
                  <a:srgbClr val="800080"/>
                </a:solidFill>
                <a:latin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12840" y="4648320"/>
            <a:ext cx="11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328920" y="464832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009999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248080" y="5334120"/>
            <a:ext cx="25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ubstitute 7 for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293640" y="5334120"/>
            <a:ext cx="146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lang="en-US" sz="2400" spc="-1" strike="noStrike">
                <a:solidFill>
                  <a:srgbClr val="009999"/>
                </a:solidFill>
                <a:latin typeface="Verdana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3445920" y="5791320"/>
            <a:ext cx="1522440" cy="840600"/>
            <a:chOff x="3445920" y="5791320"/>
            <a:chExt cx="1522440" cy="840600"/>
          </a:xfrm>
        </p:grpSpPr>
        <p:sp>
          <p:nvSpPr>
            <p:cNvPr id="525" name=""/>
            <p:cNvSpPr/>
            <p:nvPr/>
          </p:nvSpPr>
          <p:spPr>
            <a:xfrm>
              <a:off x="3625200" y="5791320"/>
              <a:ext cx="114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7    –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520800" y="6216480"/>
              <a:ext cx="5331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435200" y="6216480"/>
              <a:ext cx="5331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445920" y="6172200"/>
              <a:ext cx="126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f      = 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5248440" y="5802480"/>
            <a:ext cx="41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ubtract 7 from both s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600200" y="2666880"/>
            <a:ext cx="3733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248440" y="458784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one of the original equ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4" dur="indefinite" restart="never" nodeType="tmRoot">
          <p:childTnLst>
            <p:seq>
              <p:cTn id="1005" dur="indefinite" nodeType="mainSeq">
                <p:childTnLst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2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7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4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9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9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2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8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4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8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5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5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0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5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2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7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4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9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4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4572000" y="1600200"/>
            <a:ext cx="428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the solution as an ordered pa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341280" y="1616040"/>
            <a:ext cx="2850840" cy="489960"/>
            <a:chOff x="341280" y="1616040"/>
            <a:chExt cx="2850840" cy="489960"/>
          </a:xfrm>
        </p:grpSpPr>
        <p:sp>
          <p:nvSpPr>
            <p:cNvPr id="534" name=""/>
            <p:cNvSpPr/>
            <p:nvPr/>
          </p:nvSpPr>
          <p:spPr>
            <a:xfrm>
              <a:off x="341280" y="1646280"/>
              <a:ext cx="110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19480" y="1616040"/>
              <a:ext cx="8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0" lang="en-US" sz="2400" spc="-1" strike="noStrike">
                  <a:solidFill>
                    <a:srgbClr val="800080"/>
                  </a:solidFill>
                  <a:latin typeface="Verdana"/>
                </a:rPr>
                <a:t>7,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5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790560" y="2346480"/>
            <a:ext cx="728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ige can buy 7 sheets of card stock and 5 sheets of fe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4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fill="hold">
                      <p:stCondLst>
                        <p:cond delay="0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1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8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6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80880" y="1905120"/>
            <a:ext cx="8382240" cy="266688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lve systems of linear equations in two variables by elimin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and choose an appropriate method for solving systems of linear equa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219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6600"/>
                </a:solidFill>
                <a:latin typeface="Arial Black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33520" y="1447920"/>
            <a:ext cx="8245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What if…?</a:t>
            </a:r>
            <a:r>
              <a:rPr b="1" lang="en-US" sz="2400" spc="-1" strike="noStrike">
                <a:solidFill>
                  <a:srgbClr val="80008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ally spent $14.85 to buy 13 flowers. She bought lilies, which cost $1.25 each, and tulips, which cost $0.90 each. How many of each flower did Sally bu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33520" y="3200400"/>
            <a:ext cx="725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e a system. Us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or the number of lilies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or the number of tulip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823680" y="4398840"/>
            <a:ext cx="300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.2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0.9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4.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424400" y="4398840"/>
            <a:ext cx="394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The cost of lilies and tulips totals $14.8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148480" y="5165640"/>
            <a:ext cx="145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l + t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424400" y="5165640"/>
            <a:ext cx="397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The total number of flowers is 1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7" dur="indefinite" restart="never" nodeType="tmRoot">
          <p:childTnLst>
            <p:seq>
              <p:cTn id="1138" dur="indefinite" nodeType="mainSeq">
                <p:childTnLst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3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5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0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7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4 Continu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60560" y="1676520"/>
            <a:ext cx="11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037600" y="1701720"/>
            <a:ext cx="283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.2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.9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4.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667880" y="2133720"/>
            <a:ext cx="26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–.90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l + 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334120" y="172080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Multiply the second equation by 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–0.90 to get opposite t-coeffici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042640" y="2711520"/>
            <a:ext cx="300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.2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0.9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4.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462320" y="3092400"/>
            <a:ext cx="388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–0.9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0.9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11.70)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622840" y="3232080"/>
            <a:ext cx="359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Add this equation to the first equation to eliminate the t-te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625360" y="4419720"/>
            <a:ext cx="33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implify and solve for 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60560" y="4343400"/>
            <a:ext cx="11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1371600" y="3487680"/>
            <a:ext cx="3657600" cy="459720"/>
            <a:chOff x="1371600" y="3487680"/>
            <a:chExt cx="3657600" cy="459720"/>
          </a:xfrm>
        </p:grpSpPr>
        <p:sp>
          <p:nvSpPr>
            <p:cNvPr id="556" name=""/>
            <p:cNvSpPr/>
            <p:nvPr/>
          </p:nvSpPr>
          <p:spPr>
            <a:xfrm>
              <a:off x="1371600" y="3549600"/>
              <a:ext cx="3657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216960" y="3487680"/>
              <a:ext cx="179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0.3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3.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3679200" y="480060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l = </a:t>
            </a:r>
            <a:r>
              <a:rPr b="0" i="1" lang="en-US" sz="2400" spc="-1" strike="noStrike">
                <a:solidFill>
                  <a:srgbClr val="800080"/>
                </a:solidFill>
                <a:latin typeface="Verdana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4800600" y="2405160"/>
            <a:ext cx="914400" cy="914400"/>
            <a:chOff x="4800600" y="2405160"/>
            <a:chExt cx="914400" cy="914400"/>
          </a:xfrm>
        </p:grpSpPr>
        <p:sp>
          <p:nvSpPr>
            <p:cNvPr id="560" name=""/>
            <p:cNvSpPr/>
            <p:nvPr/>
          </p:nvSpPr>
          <p:spPr>
            <a:xfrm>
              <a:off x="5715000" y="240516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5562360" y="330984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>
              <a:off x="4800600" y="24051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1295280" y="1992240"/>
            <a:ext cx="457200" cy="930240"/>
            <a:chOff x="1295280" y="1992240"/>
            <a:chExt cx="457200" cy="930240"/>
          </a:xfrm>
        </p:grpSpPr>
        <p:sp>
          <p:nvSpPr>
            <p:cNvPr id="564" name=""/>
            <p:cNvSpPr/>
            <p:nvPr/>
          </p:nvSpPr>
          <p:spPr>
            <a:xfrm>
              <a:off x="1309680" y="200808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295280" y="199224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295280" y="291456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1371600" y="259092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8" dur="indefinite" restart="never" nodeType="tmRoot">
          <p:childTnLst>
            <p:seq>
              <p:cTn id="1169" dur="indefinite" nodeType="mainSeq">
                <p:childTnLst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6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1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8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3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1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7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0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6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2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7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2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9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9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4 Continu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638680" y="419112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the solution as an ordered pa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312840" y="4206960"/>
            <a:ext cx="2850840" cy="489960"/>
            <a:chOff x="312840" y="4206960"/>
            <a:chExt cx="2850840" cy="489960"/>
          </a:xfrm>
        </p:grpSpPr>
        <p:sp>
          <p:nvSpPr>
            <p:cNvPr id="571" name=""/>
            <p:cNvSpPr/>
            <p:nvPr/>
          </p:nvSpPr>
          <p:spPr>
            <a:xfrm>
              <a:off x="312840" y="4237200"/>
              <a:ext cx="110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291040" y="4206960"/>
              <a:ext cx="8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0" lang="en-US" sz="2400" spc="-1" strike="noStrike">
                  <a:solidFill>
                    <a:srgbClr val="800080"/>
                  </a:solidFill>
                  <a:latin typeface="Verdana"/>
                </a:rPr>
                <a:t>9,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" name=""/>
          <p:cNvSpPr/>
          <p:nvPr/>
        </p:nvSpPr>
        <p:spPr>
          <a:xfrm>
            <a:off x="992520" y="5334120"/>
            <a:ext cx="47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lly bought 9 lilies and 4 tuli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60560" y="2101680"/>
            <a:ext cx="11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638680" y="2057400"/>
            <a:ext cx="462600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one of the original equ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639040" y="2743200"/>
            <a:ext cx="246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ubstitute 9 for 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006720" y="2558880"/>
            <a:ext cx="146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9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2557440" y="2895480"/>
            <a:ext cx="2014560" cy="459720"/>
            <a:chOff x="2557440" y="2895480"/>
            <a:chExt cx="2014560" cy="459720"/>
          </a:xfrm>
        </p:grpSpPr>
        <p:sp>
          <p:nvSpPr>
            <p:cNvPr id="579" name=""/>
            <p:cNvSpPr/>
            <p:nvPr/>
          </p:nvSpPr>
          <p:spPr>
            <a:xfrm>
              <a:off x="2805120" y="2895480"/>
              <a:ext cx="154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9         –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557440" y="3320640"/>
              <a:ext cx="5335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038480" y="3320640"/>
              <a:ext cx="5335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3483720" y="3276720"/>
            <a:ext cx="102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  =   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638680" y="3124080"/>
            <a:ext cx="347976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ubtract 9 from both s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153240" y="2133720"/>
            <a:ext cx="145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l + t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0" dur="indefinite" restart="never" nodeType="tmRoot">
          <p:childTnLst>
            <p:seq>
              <p:cTn id="1241" dur="indefinite" nodeType="mainSeq">
                <p:childTnLst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6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1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3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8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3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5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0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5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0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5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0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2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7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0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838080" y="1676520"/>
            <a:ext cx="762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 systems can be solved in more than one way. For some systems, some methods may be better than oth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804888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80880" y="1198800"/>
            <a:ext cx="7925040" cy="46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lve each system by elimi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962520" y="312804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(2, –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505320" y="1908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(11,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038480" y="4194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(–3, –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1757520"/>
            <a:ext cx="304920" cy="838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2824200"/>
            <a:ext cx="304920" cy="838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3967200"/>
            <a:ext cx="304920" cy="838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250640" y="1712880"/>
            <a:ext cx="16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245240" y="2138400"/>
            <a:ext cx="180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245960" y="3205080"/>
            <a:ext cx="161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–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303560" y="2824200"/>
            <a:ext cx="213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–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317960" y="3967200"/>
            <a:ext cx="213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–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283040" y="4348080"/>
            <a:ext cx="19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–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80880" y="492444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6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rlan has $44 to buy 7 pairs of socks. Athletic socks cost $5 per pair. Dress socks cost $8 per pair. How many pairs of each can Harlan bu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62120" y="609588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4 pairs of athletic socks and 3 pairs of dress s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1" dur="indefinite" restart="never" nodeType="tmRoot">
          <p:childTnLst>
            <p:seq>
              <p:cTn id="1302" dur="indefinite" nodeType="mainSeq">
                <p:childTnLst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7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2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2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898560" y="1251000"/>
            <a:ext cx="7635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other method for solving systems of equations i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elimination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ke substitution, the goal of elimination is to get one equation that has only one variable. To do this by elimination, you add the two equations in the system togethe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3873600"/>
            <a:ext cx="7162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member that an equation stays balanced if you add equal amounts to both sides. So, if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5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+ 2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y =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1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ou can add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5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+ 2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y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one side of an equation and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o the other side and the balance is maintai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09480" y="307980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nce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–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pposite coefficien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-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rm is eliminated. The result is one equation that has only one variable: 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–18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69960" y="4330800"/>
            <a:ext cx="847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you use the elimination method to solve a system of linear equations, align all like terms in the equations. Then determine whether any like terms can be eliminated because they have opposite coefficients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362320" y="936720"/>
            <a:ext cx="39621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09480" y="4167360"/>
            <a:ext cx="7848720" cy="10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3165480"/>
            <a:ext cx="784872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2162160"/>
            <a:ext cx="78487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2162160"/>
            <a:ext cx="7848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316548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416736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2162160"/>
            <a:ext cx="0" cy="41623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458200" y="2162160"/>
            <a:ext cx="0" cy="41623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1066680"/>
            <a:ext cx="7848720" cy="110664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1066680"/>
            <a:ext cx="7848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2173320"/>
            <a:ext cx="7848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066680"/>
            <a:ext cx="0" cy="11066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458200" y="1066680"/>
            <a:ext cx="0" cy="11066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14444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olving Systems of Equations by Eli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2286000"/>
            <a:ext cx="7102440" cy="825480"/>
            <a:chOff x="838080" y="2286000"/>
            <a:chExt cx="7102440" cy="825480"/>
          </a:xfrm>
        </p:grpSpPr>
        <p:sp>
          <p:nvSpPr>
            <p:cNvPr id="93" name=""/>
            <p:cNvSpPr/>
            <p:nvPr/>
          </p:nvSpPr>
          <p:spPr>
            <a:xfrm>
              <a:off x="838080" y="2330640"/>
              <a:ext cx="150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438280" y="2286000"/>
              <a:ext cx="550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rite the system so that like terms are aligned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838080" y="3232080"/>
            <a:ext cx="7102440" cy="825480"/>
            <a:chOff x="838080" y="3232080"/>
            <a:chExt cx="7102440" cy="825480"/>
          </a:xfrm>
        </p:grpSpPr>
        <p:sp>
          <p:nvSpPr>
            <p:cNvPr id="96" name=""/>
            <p:cNvSpPr/>
            <p:nvPr/>
          </p:nvSpPr>
          <p:spPr>
            <a:xfrm>
              <a:off x="838080" y="3387600"/>
              <a:ext cx="150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438280" y="3232080"/>
              <a:ext cx="550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Eliminate one of the variables and solve for the other variabl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838080" y="4103640"/>
            <a:ext cx="7315200" cy="1191240"/>
            <a:chOff x="838080" y="4103640"/>
            <a:chExt cx="7315200" cy="1191240"/>
          </a:xfrm>
        </p:grpSpPr>
        <p:sp>
          <p:nvSpPr>
            <p:cNvPr id="99" name=""/>
            <p:cNvSpPr/>
            <p:nvPr/>
          </p:nvSpPr>
          <p:spPr>
            <a:xfrm>
              <a:off x="838080" y="4516200"/>
              <a:ext cx="150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438280" y="4103640"/>
              <a:ext cx="5715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ubstitute the value of the variable into one of the original equations and solve for the other variabl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609480" y="532116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6324480"/>
            <a:ext cx="7848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5562720"/>
            <a:ext cx="15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38280" y="5349960"/>
            <a:ext cx="62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e the answers from Steps 2 and 3 as an ordered pair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(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, and check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898560" y="1814400"/>
            <a:ext cx="7331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ter in this lesson you will learn how to multiply one or more equations by a number in order to produce opposites that can be elimin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: Elimination Using Ad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1905120"/>
            <a:ext cx="457200" cy="914400"/>
          </a:xfrm>
          <a:custGeom>
            <a:avLst/>
            <a:gdLst>
              <a:gd name="textAreaLeft" fmla="*/ 292320 w 457200"/>
              <a:gd name="textAreaRight" fmla="*/ 457560 w 4572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51120" y="1905120"/>
            <a:ext cx="241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 =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00960" y="2286000"/>
            <a:ext cx="16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 =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61640" y="2089080"/>
            <a:ext cx="541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lve                           by elimi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161000" y="2924280"/>
            <a:ext cx="3370320" cy="462960"/>
            <a:chOff x="1161000" y="2924280"/>
            <a:chExt cx="3370320" cy="462960"/>
          </a:xfrm>
        </p:grpSpPr>
        <p:sp>
          <p:nvSpPr>
            <p:cNvPr id="112" name=""/>
            <p:cNvSpPr/>
            <p:nvPr/>
          </p:nvSpPr>
          <p:spPr>
            <a:xfrm>
              <a:off x="1161000" y="2924280"/>
              <a:ext cx="126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1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696760" y="2927520"/>
              <a:ext cx="183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x</a:t>
              </a:r>
              <a:r>
                <a:rPr b="0" i="1" lang="en-US" sz="800" spc="-1" strike="noStrike">
                  <a:solidFill>
                    <a:srgbClr val="3333ff"/>
                  </a:solidFill>
                  <a:latin typeface="Verdana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 </a:t>
              </a:r>
              <a:r>
                <a:rPr b="0" lang="en-US" sz="2400" spc="-1" strike="noStrike">
                  <a:solidFill>
                    <a:srgbClr val="800080"/>
                  </a:solidFill>
                  <a:latin typeface="Verdana"/>
                </a:rPr>
                <a:t>4</a:t>
              </a:r>
              <a:r>
                <a:rPr b="0" i="1" lang="en-US" sz="2400" spc="-1" strike="noStrike">
                  <a:solidFill>
                    <a:srgbClr val="80008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</a:t>
              </a:r>
              <a:r>
                <a:rPr b="0" lang="en-US" sz="2400" spc="-1" strike="noStrike">
                  <a:solidFill>
                    <a:srgbClr val="009999"/>
                  </a:solidFill>
                  <a:latin typeface="Verdan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5394240" y="2911320"/>
            <a:ext cx="374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the system so that like terms are alig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94240" y="362124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Add the equations to eliminate the y-te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52680" y="434340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0" y="4343400"/>
            <a:ext cx="33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implify and solve for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05920" y="3276720"/>
            <a:ext cx="163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lang="en-US" sz="2400" spc="-1" strike="noStrike">
                <a:solidFill>
                  <a:srgbClr val="800080"/>
                </a:solidFill>
                <a:latin typeface="Verdana"/>
              </a:rPr>
              <a:t>4</a:t>
            </a:r>
            <a:r>
              <a:rPr b="0" i="1" lang="en-US" sz="2400" spc="-1" strike="noStrike">
                <a:solidFill>
                  <a:srgbClr val="800080"/>
                </a:solidFill>
                <a:latin typeface="Verdana"/>
              </a:rPr>
              <a:t>y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009999"/>
                </a:solidFill>
                <a:latin typeface="Verdana"/>
              </a:rPr>
              <a:t>–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3733920"/>
            <a:ext cx="228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45000" y="3686040"/>
            <a:ext cx="183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4</a:t>
            </a:r>
            <a:r>
              <a:rPr b="0" i="1" lang="en-US" sz="2400" spc="-1" strike="noStrike">
                <a:solidFill>
                  <a:srgbClr val="3333ff"/>
                </a:solidFill>
                <a:latin typeface="Verdana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+  </a:t>
            </a:r>
            <a:r>
              <a:rPr b="0" lang="en-US" sz="2400" spc="-1" strike="noStrike">
                <a:solidFill>
                  <a:srgbClr val="800080"/>
                </a:solidFill>
                <a:latin typeface="Verdana"/>
              </a:rPr>
              <a:t>0  =   </a:t>
            </a:r>
            <a:r>
              <a:rPr b="0" lang="en-US" sz="2400" spc="-1" strike="noStrike">
                <a:solidFill>
                  <a:srgbClr val="009999"/>
                </a:solidFill>
                <a:latin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76840" y="36576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2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97840" y="49528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Divide both sides by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3352680" y="4800600"/>
            <a:ext cx="1501920" cy="1221840"/>
            <a:chOff x="3352680" y="4800600"/>
            <a:chExt cx="1501920" cy="1221840"/>
          </a:xfrm>
        </p:grpSpPr>
        <p:sp>
          <p:nvSpPr>
            <p:cNvPr id="124" name=""/>
            <p:cNvSpPr/>
            <p:nvPr/>
          </p:nvSpPr>
          <p:spPr>
            <a:xfrm>
              <a:off x="3352680" y="4800600"/>
              <a:ext cx="150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29000" y="5238720"/>
              <a:ext cx="457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114800" y="5229360"/>
              <a:ext cx="457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460320" y="5181480"/>
              <a:ext cx="100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4     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546360" y="5562720"/>
              <a:ext cx="112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=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176840" y="1905120"/>
            <a:ext cx="3318840" cy="459720"/>
            <a:chOff x="1176840" y="1905120"/>
            <a:chExt cx="3318840" cy="459720"/>
          </a:xfrm>
        </p:grpSpPr>
        <p:sp>
          <p:nvSpPr>
            <p:cNvPr id="131" name=""/>
            <p:cNvSpPr/>
            <p:nvPr/>
          </p:nvSpPr>
          <p:spPr>
            <a:xfrm>
              <a:off x="1176840" y="1905120"/>
              <a:ext cx="126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3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362320" y="19051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2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4937040" y="2017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89680" y="1944720"/>
            <a:ext cx="405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one of the original equ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62320" y="26668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2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89320" y="2709720"/>
            <a:ext cx="25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ubstitute 2 for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2133720" y="3048120"/>
            <a:ext cx="2415960" cy="916920"/>
            <a:chOff x="2133720" y="3048120"/>
            <a:chExt cx="2415960" cy="916920"/>
          </a:xfrm>
        </p:grpSpPr>
        <p:sp>
          <p:nvSpPr>
            <p:cNvPr id="138" name=""/>
            <p:cNvSpPr/>
            <p:nvPr/>
          </p:nvSpPr>
          <p:spPr>
            <a:xfrm>
              <a:off x="2133720" y="3048120"/>
              <a:ext cx="241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2            –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238480" y="3476520"/>
              <a:ext cx="457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962520" y="3476520"/>
              <a:ext cx="457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126240" y="3505320"/>
              <a:ext cx="115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3090960" y="3962520"/>
            <a:ext cx="1452600" cy="1221480"/>
            <a:chOff x="3090960" y="3962520"/>
            <a:chExt cx="1452600" cy="1221480"/>
          </a:xfrm>
        </p:grpSpPr>
        <p:sp>
          <p:nvSpPr>
            <p:cNvPr id="143" name=""/>
            <p:cNvSpPr/>
            <p:nvPr/>
          </p:nvSpPr>
          <p:spPr>
            <a:xfrm>
              <a:off x="3138120" y="3962520"/>
              <a:ext cx="121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090960" y="4419720"/>
              <a:ext cx="3808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62520" y="4419720"/>
              <a:ext cx="3808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155760" y="4362480"/>
              <a:ext cx="116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4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       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193920" y="4724280"/>
              <a:ext cx="134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800080"/>
                  </a:solidFill>
                  <a:latin typeface="Verdana"/>
                </a:rPr>
                <a:t>–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1318320" y="5257800"/>
            <a:ext cx="22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4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2, </a:t>
            </a:r>
            <a:r>
              <a:rPr b="0" lang="en-US" sz="2400" spc="-1" strike="noStrike">
                <a:solidFill>
                  <a:srgbClr val="800080"/>
                </a:solidFill>
                <a:latin typeface="Verdana"/>
              </a:rPr>
              <a:t>–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89680" y="3124080"/>
            <a:ext cx="382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ubtract 2 from both s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93280" y="419112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Divide both sides by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89680" y="5273640"/>
            <a:ext cx="390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Verdana"/>
              </a:rPr>
              <a:t>Write the solution as an ordered pa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8:20:28Z</dcterms:created>
  <dc:creator>HRW</dc:creator>
  <dc:description/>
  <dc:language>en-US</dc:language>
  <cp:lastModifiedBy>stevenh</cp:lastModifiedBy>
  <dcterms:modified xsi:type="dcterms:W3CDTF">2006-05-12T16:18:01Z</dcterms:modified>
  <cp:revision>68</cp:revision>
  <dc:subject/>
  <dc:title>Slide 1</dc:title>
</cp:coreProperties>
</file>